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3FA-FD4F-4881-8A54-D2FFCD1D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60E-CCCF-4F31-B323-49E04C5E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6AF-7E4A-4DE4-B80B-1F2634ED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293-A3A2-4725-BF8F-57731340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CD06-9D88-4EDC-84B8-B05D4EE1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25A4-F130-4F81-8000-11A909E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7A8-E88E-47AA-909B-5EE5C828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4FC2-E5D6-44DA-8450-A6C737D3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7BDE-40D7-4CF0-AB25-CA5CC6B0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5D6E-A892-4169-9938-CF69611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D37D-7E11-4F0D-938A-CD0F6B8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FED-78A0-4975-BAE0-14C6E04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D77E-A760-4488-BB04-4D760E5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0376-42A2-4AAC-8AEC-58662E2D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07C3-A124-4515-A538-D92CA95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A38A-5E6C-4EFF-B89C-A5F2DB2E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82B4-2499-4CDF-94CE-F9C7193C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BD4-D5CF-4084-B052-EC7F5FA0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92B-5455-4186-A571-9AF5116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C89-6183-4B77-BEA8-5F0FF47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39E-EDBE-4DA4-AC16-22793700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3DC-7A9A-4862-9F2E-FADD520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23A-0579-412D-99C8-5B5345E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059-9818-48BE-B1F1-46C098D8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A409-958C-4765-9DB2-51B50E053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AD76-D0F5-4F1A-9C4E-871AE2D8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ake a book of arrays!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atalie Juerge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acts from 1 to 1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 students a booklet of 12 pages, and a few pages of grid pa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them build arrays for facts relates to the pages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example, these arrays could be found on page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37120" y="3332160"/>
          <a:ext cx="1568520" cy="971640"/>
        </p:xfrm>
        <a:graphic>
          <a:graphicData uri="http://schemas.openxmlformats.org/drawingml/2006/table">
            <a:tbl>
              <a:tblPr/>
              <a:tblGrid>
                <a:gridCol w="312840"/>
                <a:gridCol w="315720"/>
                <a:gridCol w="311400"/>
                <a:gridCol w="315720"/>
                <a:gridCol w="3128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5259240" y="2590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x 5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748560" y="5168880"/>
          <a:ext cx="1423800" cy="503280"/>
        </p:xfrm>
        <a:graphic>
          <a:graphicData uri="http://schemas.openxmlformats.org/drawingml/2006/table">
            <a:tbl>
              <a:tblPr/>
              <a:tblGrid>
                <a:gridCol w="284400"/>
                <a:gridCol w="284760"/>
                <a:gridCol w="285120"/>
                <a:gridCol w="284400"/>
                <a:gridCol w="2851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648320" y="35812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x 5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934320" y="2209680"/>
          <a:ext cx="1523880" cy="24264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560"/>
                <a:gridCol w="304920"/>
                <a:gridCol w="3049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8580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x 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dding challen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ve students write a fact family for each arr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ve students compare pages to make sure they have covered all the possible ar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ve students identify patterns on each p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7:10:18Z</dcterms:created>
  <dc:creator> </dc:creator>
  <dc:description/>
  <dc:language>en-US</dc:language>
  <cp:lastModifiedBy> </cp:lastModifiedBy>
  <dcterms:modified xsi:type="dcterms:W3CDTF">2008-04-29T17:12:53Z</dcterms:modified>
  <cp:revision>3</cp:revision>
  <dc:subject/>
  <dc:title>Make a book of arrays!</dc:title>
</cp:coreProperties>
</file>